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FDB-896A-488C-A2E9-801390B6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6C8-AB4E-4137-B696-5004F4B4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636-BDA3-4B26-A054-B54EAA0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B34-0803-43E4-900B-44918657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78FC-7662-40EE-83A4-15675579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DFD5-738C-4A6B-9A1E-DA017947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16FC-EE5A-44CE-81FD-D3079A2F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F205-DC5B-43E2-8E29-4C7B098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8E3-A838-4C1E-BED0-8512EF0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6A0B-E0CC-435F-BB51-E7EAAA2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702-B018-46CD-9800-3DA743A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793-6B76-44A1-91CD-4D02CCF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6632-B9A5-400C-88A0-5E080CE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50B2-1A2E-44D1-9919-EBCEA30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D78C-D2C6-4B2B-B043-71C909CC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35AD-0B27-4668-8664-F8AD80F8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D031-1626-40B1-A07C-A12373AA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D51-6C61-40DF-B170-837873A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7DE-E6C9-4B7D-A6CC-2C0D2573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A0C-64C7-4DDB-A28C-4072A1C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DD3-039C-488A-864A-886756BC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4F4-9415-42AF-846F-34C4A33D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03B-721E-47A5-9AAF-7D3C756B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99D-FDE7-48B6-9BAF-7AC5D0E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34D-740A-4FE9-AA71-E90185707B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91B-88B8-4910-8529-E0486F5891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800" spc="-1" strike="noStrike">
                <a:solidFill>
                  <a:srgbClr val="330033"/>
                </a:solidFill>
                <a:latin typeface="Times New Roman"/>
              </a:rPr>
              <a:t>zi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 de învăţare pentru clasa a X-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nul şcolar 2010-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Prezentarea lecţi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3800" spc="-1" strike="noStrike">
                <a:solidFill>
                  <a:srgbClr val="0000ff"/>
                </a:solidFill>
                <a:latin typeface="Times New Roman"/>
              </a:rPr>
              <a:t>Mihai Eminesc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Luceafăr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ipostaze ale geniului roma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romantice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George Baco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lou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tipare simbol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şi sinestezii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Lucian Blag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Eu nu strivesc corola de minuni a l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ezentare generală a poeziei moderne interbe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Lecţia 2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tipare modern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şi sinestezii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Tudor Arghez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Flori de muci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tica urâ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ipostaza eului liric; arta poet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Ion Barb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Riga Crypto şi lapona Eni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ezentarea etapelor de creaţie barbiene; integrarea textului în etapa baladic- orientală; conturarea orizontului de aştep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irismul obiectiv; personajele; structura epică a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3800" spc="-1" strike="noStrike">
                <a:solidFill>
                  <a:srgbClr val="0000ff"/>
                </a:solidFill>
                <a:latin typeface="Times New Roman"/>
              </a:rPr>
              <a:t>Nichita Stănesc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Leoaică tânără, iubi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ezentare generală a poeziei neomodern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Lecţia 2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tipare modern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şi sinestezii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54:09Z</dcterms:created>
  <dc:creator>Cursant18</dc:creator>
  <dc:description/>
  <dc:language>en-US</dc:language>
  <cp:lastModifiedBy>Albert Hajnalka</cp:lastModifiedBy>
  <dcterms:modified xsi:type="dcterms:W3CDTF">2010-09-06T11:46:13Z</dcterms:modified>
  <cp:revision>3</cp:revision>
  <dc:subject/>
  <dc:title>Pe aripi de poezie</dc:title>
</cp:coreProperties>
</file>